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666-6BC9-4BFE-86EF-585DDD02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F6E-B625-4FE1-A79F-3DA45ADD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99E-8268-46BA-A23E-CF72AD69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36B-8340-410E-BECA-298E09B7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3342-E89A-4624-90BA-78146CEB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B62-EB97-4408-952F-28607C86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F2B-4556-4365-AFAA-447249D3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9490-27D0-4FC4-A31D-33D4A93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5A42-54F6-4BEF-8AFC-11F7DE0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731B-27EF-4035-8842-DB91253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0FEE-8419-4499-83EB-F6722E6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476-A6B7-4762-A5BD-BF67BA2E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9BD-0A32-401F-9BD4-EF320CF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06D2-3F2C-4D73-85A6-84D4805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8E8C-7208-47A7-8381-36065625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F2C0-D10B-4A41-A8C8-5CAC8F11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5FE-4275-40E1-A1BA-EE8CA3E3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E78B-A5C1-4FC6-BBDD-9C0F052F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5FFF-FB2A-43D6-9270-B13ACAF0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1D24-42B8-4965-8818-ABB8089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D7BE-A97F-4D3D-B954-6F2095E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C71B-CAF1-4B8F-BFB2-D3C542BE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50B-012F-4538-B5AD-87C8286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911B-9E8C-4A52-A289-69DC4FEE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DD63-A700-42B0-B8C0-FB66177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DE5C-599A-42C1-873B-11B5B93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6AF8-64DB-41A4-BA0E-A06C780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A2A2-09A5-4CF0-8867-766231E6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A76E-25B8-40B6-863A-EA123765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E02C-FB42-4777-905C-671EF15F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668-9B3F-42DB-A17E-86407DDC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6B5-FAC3-4EC9-B42E-04A7FCD3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D7B-7868-4DBC-AAFE-B4740838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B76-DEBA-4899-A6CE-323F0DE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2F5-DF0E-460B-B1C8-A365858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7D6-7AA0-4AD7-8312-A5472AB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8872-DAAD-4914-BD39-11D24E62626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16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ategori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5c44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B05-57D4-4354-9877-04C039FEEFC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B21-18EF-4F3A-B063-33D7532468E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25.xml"/><Relationship Id="rId7" Type="http://schemas.openxmlformats.org/officeDocument/2006/relationships/slide" Target="slide15.xml"/><Relationship Id="rId8" Type="http://schemas.openxmlformats.org/officeDocument/2006/relationships/slide" Target="slide5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3.xml"/><Relationship Id="rId12" Type="http://schemas.openxmlformats.org/officeDocument/2006/relationships/slide" Target="slide3.xm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Created by Lynne Crandall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University of Michigan</a:t>
            </a:r>
            <a:br>
              <a:rPr sz="4800"/>
            </a:br>
            <a:r>
              <a:rPr b="0" lang="en-US" sz="48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Revised by Mark Kondrak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CLA Language Center</a:t>
            </a:r>
            <a:br>
              <a:rPr sz="4800"/>
            </a:br>
            <a:r>
              <a:rPr b="0" lang="en-US" sz="3200" spc="-1" strike="noStrike">
                <a:solidFill>
                  <a:srgbClr val="004c2b"/>
                </a:solidFill>
                <a:latin typeface="Times New Roman"/>
                <a:ea typeface="Times New Roman"/>
              </a:rPr>
              <a:t>University of Minnesot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uld you pu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n image her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5" action="ppaction://hlinksldjump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9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4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me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correct 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question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Put some closing remark her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The Daily Double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“question”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answer” or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rrect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esponse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2288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in the “question” or student prompt here.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3:27:32Z</dcterms:created>
  <dc:creator>Lynne Crandall</dc:creator>
  <dc:description>Adapted from the template provided by Serafin Coronil-Molina.</dc:description>
  <cp:keywords>jeopardy</cp:keywords>
  <dc:language>en-US</dc:language>
  <cp:lastModifiedBy>Administrator</cp:lastModifiedBy>
  <dcterms:modified xsi:type="dcterms:W3CDTF">2006-09-28T19:34:17Z</dcterms:modified>
  <cp:revision>144</cp:revision>
  <dc:subject/>
  <dc:title>Jeopardy prompt and response template</dc:title>
</cp:coreProperties>
</file>